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5D9-F88B-4654-B5B1-5EA43D92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6AD-4AE6-4B60-A494-C81F9CB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0CD-4FE7-4D83-9DBA-04DBE557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045-E2F2-48A0-AB34-571400A4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F546-B8C1-4BE7-9D34-CA094045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A0D2-06E9-4E9B-858E-BDB4442F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7736-6C90-4D06-BBA0-15ABB92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18D2-013C-4B69-851C-A3B45AAB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F529-1100-4626-945C-88039ECD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067E-5EE3-4AEC-882D-AAC1FDD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B3DB-6694-4A48-8B27-4CFFB60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BF8-595A-4457-8FBA-9031A61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1B9E-FF85-4240-9ADC-B875DB5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69B8-34EE-4E1A-A005-FEDFF3B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B91A-2958-418C-B4B1-5148038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A64F-01EB-45CD-BF1B-5AE35B06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6698-8B43-4276-9BB2-5A7EE048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1028-6B88-4AF6-9367-B23D28B9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9573-5195-4D7E-BBD8-2295211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DADC-854C-4CF0-90BA-57639FB5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1A03-9415-49B5-B048-2607C46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35B4-F03D-45EC-BF7B-99565ED8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16E-A498-4531-B62F-C1CBE81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EC14-BB1E-419D-9D8B-5B82795F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7A8C-ECFD-497C-95BC-18C7EC0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502E-6AB7-4143-A2B0-314E318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376E-0F9C-4D3F-B587-6A3AA73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F6EC-B818-4C02-83D2-94E1B80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01B9-3857-48F4-853B-118257B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8D82-8CA8-4A9D-80D9-AD12CE75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ACB4D-9C8C-4BD7-9B79-2EC04F2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81B9-6AF4-408C-9511-61C18A7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4780-87A3-4AF4-B5E7-0B6B2595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EE7-B2FF-43F8-976F-0657F004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D035-8B34-43D4-9D0B-7A9EC241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E823-C114-43EA-A766-E687D933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800C-8790-4088-9EDF-9AE8761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3CCE-4BFB-4655-BF58-E2007F7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521B-2360-4A89-96B9-15FA1F7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B475-C190-47C0-89EF-114AC71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4DD8-DE40-4595-9207-556F689F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629A-740C-4F0C-8C09-BC263765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5B03-9C55-451F-8C0F-664E1C72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7CD-6095-47A0-A957-AE027917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D34-CA3E-4BB9-805D-79847D36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4E4-4D72-444E-AB79-8A69D2B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B9D-0912-44C7-ACC0-81184B6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331-5F20-4900-A9AE-1E7DB7D0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F814-63BA-47CF-9A7C-10C91D0565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C88-4466-4973-B80B-1C2FA3C359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56F6-FB7B-4DA7-AE80-8B51DCEAD40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99DC-16D3-4560-AD10-2AEC9A1C05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a Subtit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ata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Brian\AppData\Local\Microsoft\Windows\Temporary Internet Files\Content.IE5\EKDEZL13\MCj04348940000[1].png"/>
          <p:cNvPicPr/>
          <p:nvPr/>
        </p:nvPicPr>
        <p:blipFill>
          <a:blip r:embed="rId2"/>
          <a:stretch/>
        </p:blipFill>
        <p:spPr>
          <a:xfrm>
            <a:off x="6481800" y="1473120"/>
            <a:ext cx="2031840" cy="2273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Brian\AppData\Local\Microsoft\Windows\Temporary Internet Files\Content.IE5\U9C9BWIS\MCj04363310000[1].png"/>
          <p:cNvPicPr/>
          <p:nvPr/>
        </p:nvPicPr>
        <p:blipFill>
          <a:blip r:embed="rId3"/>
          <a:stretch/>
        </p:blipFill>
        <p:spPr>
          <a:xfrm>
            <a:off x="374760" y="265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Brian\AppData\Local\Microsoft\Windows\Temporary Internet Files\Content.IE5\23OYR8JO\MCj04348750000[1].png"/>
          <p:cNvPicPr/>
          <p:nvPr/>
        </p:nvPicPr>
        <p:blipFill>
          <a:blip r:embed="rId4"/>
          <a:stretch/>
        </p:blipFill>
        <p:spPr>
          <a:xfrm>
            <a:off x="2490840" y="4014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Brian\AppData\Local\Microsoft\Windows\Temporary Internet Files\Content.IE5\OAEEHOYT\MCj04348850000[1].png"/>
          <p:cNvPicPr/>
          <p:nvPr/>
        </p:nvPicPr>
        <p:blipFill>
          <a:blip r:embed="rId5"/>
          <a:stretch/>
        </p:blipFill>
        <p:spPr>
          <a:xfrm>
            <a:off x="4624560" y="325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8:05:00Z</dcterms:created>
  <dc:creator>Brian</dc:creator>
  <dc:description/>
  <dc:language>en-US</dc:language>
  <cp:lastModifiedBy>Brian</cp:lastModifiedBy>
  <dcterms:modified xsi:type="dcterms:W3CDTF">2009-04-30T18:08:54Z</dcterms:modified>
  <cp:revision>1</cp:revision>
  <dc:subject/>
  <dc:title>My Title</dc:title>
</cp:coreProperties>
</file>