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604-7000-4030-8394-07327A10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092-3914-4D5F-8BCC-7BB708DA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067-7A3A-4A1A-9DB8-BE2B884F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FB5-51E1-493C-86D5-24FCDA91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EEDD-D941-466C-946C-0BFE7360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021A-AA51-459B-A592-1D2C7CA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A71A-BDFC-48DB-B8DD-41A77ED8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CBE5-D9A1-4C7C-89D7-04D47065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2E7D-990D-4F8C-8584-4D09473B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72B9-D727-41E2-A0FD-275A083F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8C28-5C55-4424-BF27-3A7480DA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D341-614E-4030-BEFB-58326518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3718-1A94-45A0-A9C6-BED00939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B528-A4BD-4D88-BE21-CBF54687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062C-F601-4B49-9B17-1C4A302D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488D-9B56-476F-AEBE-57014D9A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E182-2A17-411F-B513-EDE88DE4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7455-E540-4354-B7CD-43C14A57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4B432-7545-4F8E-AA07-B38F1A5D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FF93-DD63-4DDB-9D17-30189763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BAC6-A08F-4F75-A086-4D2626DC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F252E-57F4-4B3A-B45F-0CEE4F7E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31A-C520-4E36-9FAE-734CA698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F6B1-A60B-4EB3-9B43-D100DEDF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A6B1-4267-46F4-9F34-7B04002B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207D8-E0DD-4A29-BC2A-24F994B5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5D258-41D0-424B-AEB3-07F15548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8CC8-132B-430E-88DC-0B5F6254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6551E-2601-4552-B863-0D114971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5109-E7AE-4490-A708-84BF24E4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CA1F-E0B0-48F5-BFA8-B2CE590F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4A4E-2930-416C-9B31-CD7FEF4E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795BD-D3D5-4597-85FD-D3C0F4AC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D08-9B2F-4875-B1EC-84015A2D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D416C-FCCE-42EF-8400-0FDAA0BB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8F07D-B60A-4FB7-B97C-49C6F83D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E3D3-BEDA-436E-BAE2-0870E122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7A0DE-164C-404A-B3CA-757DE0C2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B079-8F4D-4AEF-890B-F235ECF4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7D34-9856-4220-8BFB-3788A7DC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3B7A8-B97F-4569-8896-0CEE75D2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C16C2-019B-4679-A638-E3D5AF91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B47D-8297-461B-A28A-37604AA2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4DD-2368-41F5-A45E-9FDA364D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AF7-1635-43EF-A771-97515ACF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745-5EDE-4D1F-8128-F8044413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BBD2-2936-475C-A3D8-3E97856D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02E-4B6D-4AE1-A708-09FA6879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8FC3-2163-49FF-A2DB-3419A70668C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F7C8-145C-4DD7-8DE8-7B111774297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C197-D6BE-4224-848C-D434920AD8D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0987-5D8C-41CB-B48B-4DCA50ACF71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 a Subtit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me D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vata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Brian\AppData\Local\Microsoft\Windows\Temporary Internet Files\Content.IE5\EKDEZL13\MCj04348940000[1].png"/>
          <p:cNvPicPr/>
          <p:nvPr/>
        </p:nvPicPr>
        <p:blipFill>
          <a:blip r:embed="rId2"/>
          <a:stretch/>
        </p:blipFill>
        <p:spPr>
          <a:xfrm>
            <a:off x="6481800" y="1473120"/>
            <a:ext cx="2031840" cy="22734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Brian\AppData\Local\Microsoft\Windows\Temporary Internet Files\Content.IE5\U9C9BWIS\MCj04363310000[1].png"/>
          <p:cNvPicPr/>
          <p:nvPr/>
        </p:nvPicPr>
        <p:blipFill>
          <a:blip r:embed="rId3"/>
          <a:stretch/>
        </p:blipFill>
        <p:spPr>
          <a:xfrm>
            <a:off x="374760" y="265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C:\Users\Brian\AppData\Local\Microsoft\Windows\Temporary Internet Files\Content.IE5\23OYR8JO\MCj04348750000[1].png"/>
          <p:cNvPicPr/>
          <p:nvPr/>
        </p:nvPicPr>
        <p:blipFill>
          <a:blip r:embed="rId4"/>
          <a:stretch/>
        </p:blipFill>
        <p:spPr>
          <a:xfrm>
            <a:off x="2490840" y="4014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Brian\AppData\Local\Microsoft\Windows\Temporary Internet Files\Content.IE5\OAEEHOYT\MCj04348850000[1].png"/>
          <p:cNvPicPr/>
          <p:nvPr/>
        </p:nvPicPr>
        <p:blipFill>
          <a:blip r:embed="rId5"/>
          <a:stretch/>
        </p:blipFill>
        <p:spPr>
          <a:xfrm>
            <a:off x="4624560" y="325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8:05:00Z</dcterms:created>
  <dc:creator>Brian</dc:creator>
  <dc:description/>
  <dc:language>en-US</dc:language>
  <cp:lastModifiedBy>Brian</cp:lastModifiedBy>
  <dcterms:modified xsi:type="dcterms:W3CDTF">2009-04-30T18:08:54Z</dcterms:modified>
  <cp:revision>1</cp:revision>
  <dc:subject/>
  <dc:title>My Title</dc:title>
</cp:coreProperties>
</file>