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95DE-2106-4A48-AAD2-D9D82AEF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9F21-D181-4F76-B746-549EFC91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4E82-DECB-43DE-8611-1A9EBBAD8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C1DC-9135-42CF-811F-3F504AEC8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F013-B1C3-44ED-83F0-E910E643E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E9B2-A385-44CC-B5FE-7F587FED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37D0-2B25-40EE-9EB2-1C6DD2C3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6BFE-8C4A-4491-93A5-FE2F9CEF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4E86-CF54-4977-9C6D-7823DF73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6C6D-FBD0-44DD-AA49-379B8C47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8153-E197-4540-987C-456A92AC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CC46-D59A-45D8-95A0-CB880330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362E-E4BD-46F3-B282-F6B3A973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664D-B3B1-4A94-AB5D-3405AAB9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65CF-2847-4367-9131-1B0F8152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C0EB-8EEE-4D53-A1A5-2D8A5202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59B1-C434-429A-B7AD-0BC55D7C2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9CF5F-67D2-444A-823C-4ACFB7B3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478BF-5958-42D2-B55E-96098553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262CD-B07A-475B-B462-B0F1FC0F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A14DF-EFAA-4ADA-ADE2-BEA492FC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9F090-E27F-47B8-8127-D9CF50D4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793E-AD67-4D1D-985D-3E563185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AE43F-0D53-4A68-AA64-48760706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C45F0-1711-4EDA-8CA2-32494C7D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AE6D4-35B6-4553-B617-CF575E53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6E128-E543-4BEE-A5BD-89D04B48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A7ECE-8A13-414C-89DA-4F4D31A8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6D7E0-EE95-4A01-BF87-4D2C80605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8C725-3063-4F44-B22E-C7702AE18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1274D-020A-4D5F-BBEF-674E67B40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B942C-45FB-4A03-967D-65FB1467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48778-E157-4249-B22C-DA91A0A6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2E68-C06C-4E67-8E5F-FD32E238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6B1D3-02B6-4C57-AE1E-CB5A8912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7A350-0534-4FF9-BFEA-248ADD07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24F7C-378C-4756-B546-E674444C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EEB07-A172-4784-8D0B-AE2435F1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AFE4C-F1B0-4DC4-8FD6-6E686D4E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560D0-26B1-467C-B654-D6A354C7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CCA3C-36EC-4A0C-BB7B-A0FFBBF3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AB50E-3643-448A-B6BE-63C951423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21B81-84A4-44F2-8F16-90978C56A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582A-7A9B-4462-AEC7-FEE67980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9094-3FD4-4D22-8730-4ACE9CE2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A953-DCF0-453F-9DC7-94D5E88D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7FA1-441E-49A9-BE0C-E7D0E558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0D17-7F9C-4497-9489-F097B299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BD4D-A9ED-4803-8A13-3A2C275EA5D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B89B-3FC9-4360-9F84-7C9CA01FBAB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98FC-F879-44B5-9A09-D74EC326886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687C-B198-4354-850F-7784342F0FA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nd a Subtitl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ome Dat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Content Placeholder 3" descr=""/>
          <p:cNvPicPr/>
          <p:nvPr/>
        </p:nvPicPr>
        <p:blipFill>
          <a:blip r:embed="rId1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vata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C:\Users\Brian\AppData\Local\Microsoft\Windows\Temporary Internet Files\Content.IE5\EKDEZL13\MCj04348940000[1].png"/>
          <p:cNvPicPr/>
          <p:nvPr/>
        </p:nvPicPr>
        <p:blipFill>
          <a:blip r:embed="rId2"/>
          <a:stretch/>
        </p:blipFill>
        <p:spPr>
          <a:xfrm>
            <a:off x="6481800" y="1473120"/>
            <a:ext cx="2031840" cy="22734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C:\Users\Brian\AppData\Local\Microsoft\Windows\Temporary Internet Files\Content.IE5\U9C9BWIS\MCj04363310000[1].png"/>
          <p:cNvPicPr/>
          <p:nvPr/>
        </p:nvPicPr>
        <p:blipFill>
          <a:blip r:embed="rId3"/>
          <a:stretch/>
        </p:blipFill>
        <p:spPr>
          <a:xfrm>
            <a:off x="374760" y="26542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C:\Users\Brian\AppData\Local\Microsoft\Windows\Temporary Internet Files\Content.IE5\23OYR8JO\MCj04348750000[1].png"/>
          <p:cNvPicPr/>
          <p:nvPr/>
        </p:nvPicPr>
        <p:blipFill>
          <a:blip r:embed="rId4"/>
          <a:stretch/>
        </p:blipFill>
        <p:spPr>
          <a:xfrm>
            <a:off x="2490840" y="4014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C:\Users\Brian\AppData\Local\Microsoft\Windows\Temporary Internet Files\Content.IE5\OAEEHOYT\MCj04348850000[1].png"/>
          <p:cNvPicPr/>
          <p:nvPr/>
        </p:nvPicPr>
        <p:blipFill>
          <a:blip r:embed="rId5"/>
          <a:stretch/>
        </p:blipFill>
        <p:spPr>
          <a:xfrm>
            <a:off x="4624560" y="32576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8:05:00Z</dcterms:created>
  <dc:creator>Brian</dc:creator>
  <dc:description/>
  <dc:language>en-US</dc:language>
  <cp:lastModifiedBy>Brian</cp:lastModifiedBy>
  <dcterms:modified xsi:type="dcterms:W3CDTF">2009-04-30T18:08:54Z</dcterms:modified>
  <cp:revision>1</cp:revision>
  <dc:subject/>
  <dc:title>My Title</dc:title>
</cp:coreProperties>
</file>