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10D-8065-4793-9DB3-6BEF9053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89B-F29C-4C91-BF68-B0EE627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99D-E2A4-406E-BA1E-3879E4A0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FA0-BFFA-4C47-8687-ACBF48F7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1DCD-2C7C-4ED6-B44F-6325FB92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D64F-03BF-489F-A819-D0F1C780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E74E-C0CF-4C5B-AAB5-BEFB485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26A-A808-406B-9C0C-68415C5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D96-FCA5-4172-93CD-CEEBAFF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A3C6-C3C2-483B-96F6-1CBC330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3907-490C-4332-83D9-BDB8497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9E6-541E-4014-9992-505B5E0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993-927C-4E69-8ED3-6E59914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F538-0F7F-4CF5-AE89-178C65D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082-01B1-4D09-B558-7C536928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A5AF-9528-4A0B-9F86-2CBA84E1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C64-0091-479A-8CB5-B99EBDCB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268B-A71E-48D0-B441-BD1453A3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7A0A-24D9-4555-8A86-968D0FB0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9348-1B1A-40BE-93E7-12C6A51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43CC-1D0E-41AD-9FFD-8345DFF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D5AF-E9F4-4751-A1E7-BEA90FD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E12-6102-44C0-8E9B-931FEC9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54B1-6D31-4609-8A5F-E8CA6709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6059-FCA7-4ADB-837D-7EF3EF3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A2CD-7A2C-4366-8658-BED4E542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E27A-7A36-4E0C-996B-4A5BD02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F7A3-03D4-411D-994E-9501238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1E27-D9E8-4947-8389-441A19E6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A8E9-FE95-41A3-A7C0-8441E437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EF78-CE44-4711-B376-F46B3AAD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5A34-0630-45CD-8329-9FE22C8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3EA1-1FC6-46C2-9245-072DBF3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6CE-19EE-4C22-8B51-109D785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A537-EB90-4AB7-95D0-C719FA1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2F1B-727C-4D59-8621-C0D0A5B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A725-8907-4731-844C-96765B4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5DB3-667B-4656-A239-7902E47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A198-7742-4670-9C00-B739925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E3751-E2E1-4093-84C3-8B2F941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B7D3-64C4-4332-8463-940F3D2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B2DE-44C7-419A-A26E-38BBC202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D0EB-F7B9-4F23-B3D0-D30D9D0D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740-9347-4C56-98AB-7E106D4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2CE-46ED-4939-BCF3-39A4921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3FD-A716-4922-B440-321C13F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8BF-DC77-4F56-B01B-47D4847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F0B-74BC-4D40-8DFE-F2737E1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9C62-897E-44A2-B138-8EB3A40C32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581-10EB-438F-A2C6-475C0C2A72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BA4-2935-4FC7-89C2-F62CB55642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F3E-76F4-4503-B74C-12BD259124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a Subtit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t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Brian\AppData\Local\Microsoft\Windows\Temporary Internet Files\Content.IE5\EKDEZL13\MCj04348940000[1].png"/>
          <p:cNvPicPr/>
          <p:nvPr/>
        </p:nvPicPr>
        <p:blipFill>
          <a:blip r:embed="rId2"/>
          <a:stretch/>
        </p:blipFill>
        <p:spPr>
          <a:xfrm>
            <a:off x="6481800" y="147312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Brian\AppData\Local\Microsoft\Windows\Temporary Internet Files\Content.IE5\U9C9BWIS\MCj04363310000[1].png"/>
          <p:cNvPicPr/>
          <p:nvPr/>
        </p:nvPicPr>
        <p:blipFill>
          <a:blip r:embed="rId3"/>
          <a:stretch/>
        </p:blipFill>
        <p:spPr>
          <a:xfrm>
            <a:off x="374760" y="265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Brian\AppData\Local\Microsoft\Windows\Temporary Internet Files\Content.IE5\23OYR8JO\MCj04348750000[1].png"/>
          <p:cNvPicPr/>
          <p:nvPr/>
        </p:nvPicPr>
        <p:blipFill>
          <a:blip r:embed="rId4"/>
          <a:stretch/>
        </p:blipFill>
        <p:spPr>
          <a:xfrm>
            <a:off x="2490840" y="4014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Brian\AppData\Local\Microsoft\Windows\Temporary Internet Files\Content.IE5\OAEEHOYT\MCj04348850000[1].png"/>
          <p:cNvPicPr/>
          <p:nvPr/>
        </p:nvPicPr>
        <p:blipFill>
          <a:blip r:embed="rId5"/>
          <a:stretch/>
        </p:blipFill>
        <p:spPr>
          <a:xfrm>
            <a:off x="4624560" y="325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05:00Z</dcterms:created>
  <dc:creator>Brian</dc:creator>
  <dc:description/>
  <dc:language>en-US</dc:language>
  <cp:lastModifiedBy>Brian</cp:lastModifiedBy>
  <dcterms:modified xsi:type="dcterms:W3CDTF">2009-04-30T18:08:54Z</dcterms:modified>
  <cp:revision>1</cp:revision>
  <dc:subject/>
  <dc:title>My Title</dc:title>
</cp:coreProperties>
</file>